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24A-589C-4727-8EDD-12258B45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D62-6C4C-4EAF-8179-BAC39CE3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C1D-768B-4EA0-9B4C-E22D61F3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F73-0283-4A33-B144-CA59E4E8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00F-7067-4D1F-880B-A369D4C0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FA5-E830-4762-A4A6-95FD3EC7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7AC-E113-4EA3-BA39-B64FF56D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46D-5573-476E-BBC4-6D45034C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5FC-718C-4F5A-B892-FADC8B78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3DB-C73B-42D6-B86C-1CF0C18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120-D3AE-4FBB-8A23-EF9F11C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1B4-A8CE-4CE7-99FA-8E6A5AE2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F16C-42A3-47C2-B0CA-A134E73A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uvre portail Domotic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miteur de cou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1484280"/>
          <a:ext cx="790884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0884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flipH="1" flipV="1">
            <a:off x="2268000" y="1916280"/>
            <a:ext cx="2232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556000" y="198900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842920" y="1989000"/>
            <a:ext cx="865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3240" y="1844640"/>
            <a:ext cx="2020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ème pres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059280" y="2852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37000"/>
            <a:ext cx="3529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ques liés à l’arbre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76720" y="3357720"/>
            <a:ext cx="1079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213000"/>
            <a:ext cx="3529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ques liés au bras de so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08720" y="4221000"/>
            <a:ext cx="107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8880" y="4005360"/>
            <a:ext cx="1589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s de so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d’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faut modéliser une liaison av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rotations et 1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084640"/>
            <a:ext cx="5399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en parallèle: sphère cylindre + ponct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997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en sé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érique à doigt + gliss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677640" y="4667760"/>
            <a:ext cx="1116720" cy="1558440"/>
            <a:chOff x="6677640" y="4667760"/>
            <a:chExt cx="1116720" cy="1558440"/>
          </a:xfrm>
        </p:grpSpPr>
        <p:sp>
          <p:nvSpPr>
            <p:cNvPr id="59" name=""/>
            <p:cNvSpPr/>
            <p:nvPr/>
          </p:nvSpPr>
          <p:spPr>
            <a:xfrm rot="3600000">
              <a:off x="6903000" y="4721760"/>
              <a:ext cx="28908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 rot="19800000">
              <a:off x="6735960" y="4942080"/>
              <a:ext cx="20232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761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76185"/>
                </a:path>
              </a:pathLst>
            </a:cu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765120" y="4718520"/>
              <a:ext cx="420480" cy="24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909120" y="4968720"/>
              <a:ext cx="420480" cy="24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 rot="19800000">
              <a:off x="7156080" y="4698720"/>
              <a:ext cx="20232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761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76185"/>
                </a:path>
              </a:pathLst>
            </a:cu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9000000">
              <a:off x="6851520" y="4864680"/>
              <a:ext cx="267480" cy="2728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9800000">
              <a:off x="7283520" y="5604120"/>
              <a:ext cx="473400" cy="274680"/>
            </a:xfrm>
            <a:prstGeom prst="parallelogram">
              <a:avLst>
                <a:gd name="adj" fmla="val 57888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7413480" y="5421240"/>
              <a:ext cx="223200" cy="348120"/>
              <a:chOff x="7413480" y="5421240"/>
              <a:chExt cx="223200" cy="348120"/>
            </a:xfrm>
          </p:grpSpPr>
          <p:sp>
            <p:nvSpPr>
              <p:cNvPr id="67" name=""/>
              <p:cNvSpPr/>
              <p:nvPr/>
            </p:nvSpPr>
            <p:spPr>
              <a:xfrm>
                <a:off x="7525080" y="5421240"/>
                <a:ext cx="0" cy="124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13480" y="5545800"/>
                <a:ext cx="223200" cy="22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25080" y="5501880"/>
                <a:ext cx="39960" cy="4392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 flipV="1">
              <a:off x="7054920" y="5076000"/>
              <a:ext cx="459360" cy="344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25240" y="5191200"/>
              <a:ext cx="0" cy="57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25240" y="5766120"/>
              <a:ext cx="689040" cy="45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514280" y="5881320"/>
              <a:ext cx="0" cy="344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997960" y="2997000"/>
            <a:ext cx="1580400" cy="1314360"/>
            <a:chOff x="5997960" y="2997000"/>
            <a:chExt cx="1580400" cy="1314360"/>
          </a:xfrm>
        </p:grpSpPr>
        <p:sp>
          <p:nvSpPr>
            <p:cNvPr id="75" name=""/>
            <p:cNvSpPr/>
            <p:nvPr/>
          </p:nvSpPr>
          <p:spPr>
            <a:xfrm rot="3613800">
              <a:off x="6786000" y="3215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3613800">
              <a:off x="6860520" y="3215880"/>
              <a:ext cx="33516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694920" y="3447000"/>
              <a:ext cx="105120" cy="5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9013200">
              <a:off x="6746760" y="3459240"/>
              <a:ext cx="74160" cy="39960"/>
            </a:xfrm>
            <a:prstGeom prst="rtTriangle">
              <a:avLst/>
            </a:prstGeom>
            <a:solidFill>
              <a:srgbClr val="0000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786000" y="3215520"/>
              <a:ext cx="355680" cy="304920"/>
              <a:chOff x="6786000" y="3215520"/>
              <a:chExt cx="355680" cy="30492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7035480" y="3251880"/>
                <a:ext cx="106200" cy="6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3613800">
                <a:off x="6826680" y="3255840"/>
                <a:ext cx="223200" cy="22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613800">
                <a:off x="7044120" y="3296880"/>
                <a:ext cx="39960" cy="4356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rot="14400000">
              <a:off x="6227640" y="3371760"/>
              <a:ext cx="264600" cy="655200"/>
            </a:xfrm>
            <a:custGeom>
              <a:avLst/>
              <a:gdLst/>
              <a:ahLst/>
              <a:rect l="l" t="t" r="r" b="b"/>
              <a:pathLst>
                <a:path w="417" h="1032">
                  <a:moveTo>
                    <a:pt x="0" y="936"/>
                  </a:moveTo>
                  <a:lnTo>
                    <a:pt x="167" y="1032"/>
                  </a:lnTo>
                  <a:lnTo>
                    <a:pt x="417" y="888"/>
                  </a:lnTo>
                  <a:lnTo>
                    <a:pt x="417" y="96"/>
                  </a:lnTo>
                  <a:lnTo>
                    <a:pt x="248" y="0"/>
                  </a:lnTo>
                  <a:lnTo>
                    <a:pt x="0" y="14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064560" y="3558240"/>
              <a:ext cx="593640" cy="373320"/>
              <a:chOff x="6064560" y="3558240"/>
              <a:chExt cx="593640" cy="37332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6222600" y="3558240"/>
                <a:ext cx="435600" cy="251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6222600" y="3809520"/>
                <a:ext cx="360" cy="122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6064560" y="3718080"/>
                <a:ext cx="158400" cy="9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 flipV="1">
              <a:off x="6062760" y="3718800"/>
              <a:ext cx="160200" cy="2127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062040" y="3810240"/>
              <a:ext cx="158040" cy="291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997960" y="3483000"/>
              <a:ext cx="742320" cy="428760"/>
              <a:chOff x="5997960" y="3483000"/>
              <a:chExt cx="742320" cy="42876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5997960" y="3828960"/>
                <a:ext cx="143280" cy="82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635520" y="3483000"/>
                <a:ext cx="104760" cy="604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flipV="1">
              <a:off x="6578640" y="3206880"/>
              <a:ext cx="257040" cy="12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97560" y="3844800"/>
              <a:ext cx="0" cy="46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40160" y="2997000"/>
              <a:ext cx="538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99292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79280" y="836640"/>
            <a:ext cx="6629040" cy="3987360"/>
            <a:chOff x="179280" y="836640"/>
            <a:chExt cx="6629040" cy="3987360"/>
          </a:xfrm>
        </p:grpSpPr>
        <p:sp>
          <p:nvSpPr>
            <p:cNvPr id="98" name=""/>
            <p:cNvSpPr/>
            <p:nvPr/>
          </p:nvSpPr>
          <p:spPr>
            <a:xfrm>
              <a:off x="179280" y="154764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b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2840" y="83664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31960" y="91260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0120" y="164916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s de sort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1000" y="242388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1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62440" y="247464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2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55440" y="392256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1’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96720" y="1458720"/>
              <a:ext cx="6220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36600" y="1319040"/>
              <a:ext cx="545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7560" y="1433520"/>
              <a:ext cx="990360" cy="52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20400" y="2195280"/>
              <a:ext cx="698400" cy="469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0280" y="2436480"/>
              <a:ext cx="1028520" cy="1739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96920" y="1725480"/>
              <a:ext cx="87624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0" y="2932200"/>
              <a:ext cx="812880" cy="38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998440" y="3325680"/>
              <a:ext cx="1104840" cy="914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043240" y="2398320"/>
              <a:ext cx="774720" cy="495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348000" y="4508640"/>
            <a:ext cx="3090960" cy="1549440"/>
            <a:chOff x="3348000" y="4508640"/>
            <a:chExt cx="3090960" cy="1549440"/>
          </a:xfrm>
        </p:grpSpPr>
        <p:sp>
          <p:nvSpPr>
            <p:cNvPr id="115" name=""/>
            <p:cNvSpPr/>
            <p:nvPr/>
          </p:nvSpPr>
          <p:spPr>
            <a:xfrm>
              <a:off x="3348000" y="4508640"/>
              <a:ext cx="3090960" cy="154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iaisons 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issière + sphérique à doig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  sphère cylindre + sphèr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ui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4480" y="5003640"/>
              <a:ext cx="79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6480" y="5893200"/>
              <a:ext cx="618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214040" y="260640"/>
            <a:ext cx="1137600" cy="6430320"/>
            <a:chOff x="7214040" y="260640"/>
            <a:chExt cx="1137600" cy="6430320"/>
          </a:xfrm>
        </p:grpSpPr>
        <p:sp>
          <p:nvSpPr>
            <p:cNvPr id="119" name=""/>
            <p:cNvSpPr/>
            <p:nvPr/>
          </p:nvSpPr>
          <p:spPr>
            <a:xfrm flipV="1" rot="10800000">
              <a:off x="7481880" y="5836680"/>
              <a:ext cx="288360" cy="67536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7481880" y="5710680"/>
              <a:ext cx="288360" cy="980280"/>
              <a:chOff x="7481880" y="5710680"/>
              <a:chExt cx="288360" cy="9802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7626240" y="5710680"/>
                <a:ext cx="0" cy="21312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7626240" y="6510960"/>
                <a:ext cx="0" cy="180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481880" y="5781240"/>
                <a:ext cx="28836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7481880" y="6560280"/>
                <a:ext cx="28836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 rot="10800000">
              <a:off x="7500960" y="386280"/>
              <a:ext cx="288360" cy="67536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500960" y="260640"/>
              <a:ext cx="288360" cy="980280"/>
              <a:chOff x="7500960" y="260640"/>
              <a:chExt cx="288360" cy="98028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7645320" y="260640"/>
                <a:ext cx="0" cy="2131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645320" y="1060920"/>
                <a:ext cx="0" cy="1800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500960" y="331200"/>
                <a:ext cx="2883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500960" y="1110240"/>
                <a:ext cx="2883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489440" y="36118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6120" y="3558600"/>
              <a:ext cx="33516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41720" y="3922920"/>
              <a:ext cx="0" cy="120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7624080" y="3933360"/>
              <a:ext cx="74160" cy="39960"/>
            </a:xfrm>
            <a:prstGeom prst="rtTriangl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530120" y="3530160"/>
              <a:ext cx="223560" cy="345960"/>
              <a:chOff x="7530120" y="3530160"/>
              <a:chExt cx="223560" cy="345960"/>
            </a:xfrm>
          </p:grpSpPr>
          <p:sp>
            <p:nvSpPr>
              <p:cNvPr id="136" name=""/>
              <p:cNvSpPr/>
              <p:nvPr/>
            </p:nvSpPr>
            <p:spPr>
              <a:xfrm>
                <a:off x="7641720" y="3530160"/>
                <a:ext cx="0" cy="1224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530120" y="3652560"/>
                <a:ext cx="223560" cy="223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1720" y="3608640"/>
                <a:ext cx="39960" cy="43560"/>
              </a:xfrm>
              <a:prstGeom prst="rtTriangle">
                <a:avLst/>
              </a:prstGeom>
              <a:solidFill>
                <a:srgbClr val="00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514280" y="4082400"/>
              <a:ext cx="264600" cy="655200"/>
            </a:xfrm>
            <a:custGeom>
              <a:avLst/>
              <a:gdLst/>
              <a:ahLst/>
              <a:rect l="l" t="t" r="r" b="b"/>
              <a:pathLst>
                <a:path w="417" h="1032">
                  <a:moveTo>
                    <a:pt x="0" y="936"/>
                  </a:moveTo>
                  <a:lnTo>
                    <a:pt x="167" y="1032"/>
                  </a:lnTo>
                  <a:lnTo>
                    <a:pt x="417" y="888"/>
                  </a:lnTo>
                  <a:lnTo>
                    <a:pt x="417" y="96"/>
                  </a:lnTo>
                  <a:lnTo>
                    <a:pt x="248" y="0"/>
                  </a:lnTo>
                  <a:lnTo>
                    <a:pt x="0" y="14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514280" y="4144320"/>
              <a:ext cx="264240" cy="594000"/>
              <a:chOff x="7514280" y="4144320"/>
              <a:chExt cx="264240" cy="59400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7620120" y="4235760"/>
                <a:ext cx="0" cy="50256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14280" y="4174920"/>
                <a:ext cx="105840" cy="608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620120" y="4144320"/>
                <a:ext cx="158400" cy="910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7514280" y="4142160"/>
              <a:ext cx="264600" cy="32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620120" y="4082400"/>
              <a:ext cx="54000" cy="15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7645680" y="3989880"/>
              <a:ext cx="0" cy="857160"/>
              <a:chOff x="7645680" y="3989880"/>
              <a:chExt cx="0" cy="8571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7645680" y="3989880"/>
                <a:ext cx="0" cy="16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7645680" y="4725720"/>
                <a:ext cx="0" cy="121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14400000">
              <a:off x="7502040" y="469980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4400000">
              <a:off x="7508880" y="463680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4400000">
              <a:off x="7451280" y="304884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4400000">
              <a:off x="7458120" y="298620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00600" y="2853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87280" y="2799720"/>
              <a:ext cx="33552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53240" y="3164400"/>
              <a:ext cx="0" cy="120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7635600" y="3174840"/>
              <a:ext cx="74160" cy="39960"/>
            </a:xfrm>
            <a:prstGeom prst="rtTriangle">
              <a:avLst/>
            </a:prstGeom>
            <a:solidFill>
              <a:srgbClr val="000000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541280" y="2771280"/>
              <a:ext cx="223560" cy="345960"/>
              <a:chOff x="7541280" y="2771280"/>
              <a:chExt cx="223560" cy="345960"/>
            </a:xfrm>
          </p:grpSpPr>
          <p:sp>
            <p:nvSpPr>
              <p:cNvPr id="158" name=""/>
              <p:cNvSpPr/>
              <p:nvPr/>
            </p:nvSpPr>
            <p:spPr>
              <a:xfrm>
                <a:off x="7652880" y="2771280"/>
                <a:ext cx="0" cy="122400"/>
              </a:xfrm>
              <a:prstGeom prst="line">
                <a:avLst/>
              </a:prstGeom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41280" y="2893680"/>
                <a:ext cx="223560" cy="223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652880" y="2849760"/>
                <a:ext cx="39960" cy="43560"/>
              </a:xfrm>
              <a:prstGeom prst="rtTriangle">
                <a:avLst/>
              </a:prstGeom>
              <a:solidFill>
                <a:srgbClr val="000000"/>
              </a:solidFill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rot="14400000">
              <a:off x="7451280" y="151236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4400000">
              <a:off x="7458120" y="144972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26880" y="2076120"/>
              <a:ext cx="264600" cy="655200"/>
            </a:xfrm>
            <a:custGeom>
              <a:avLst/>
              <a:gdLst/>
              <a:ahLst/>
              <a:rect l="l" t="t" r="r" b="b"/>
              <a:pathLst>
                <a:path w="417" h="1032">
                  <a:moveTo>
                    <a:pt x="0" y="936"/>
                  </a:moveTo>
                  <a:lnTo>
                    <a:pt x="167" y="1032"/>
                  </a:lnTo>
                  <a:lnTo>
                    <a:pt x="417" y="888"/>
                  </a:lnTo>
                  <a:lnTo>
                    <a:pt x="417" y="96"/>
                  </a:lnTo>
                  <a:lnTo>
                    <a:pt x="248" y="0"/>
                  </a:lnTo>
                  <a:lnTo>
                    <a:pt x="0" y="14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526880" y="2138040"/>
              <a:ext cx="264240" cy="594000"/>
              <a:chOff x="7526880" y="2138040"/>
              <a:chExt cx="264240" cy="594000"/>
            </a:xfrm>
          </p:grpSpPr>
          <p:sp>
            <p:nvSpPr>
              <p:cNvPr id="165" name=""/>
              <p:cNvSpPr/>
              <p:nvPr/>
            </p:nvSpPr>
            <p:spPr>
              <a:xfrm flipV="1">
                <a:off x="7632720" y="2229480"/>
                <a:ext cx="0" cy="502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26880" y="2168640"/>
                <a:ext cx="105840" cy="608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632720" y="2138040"/>
                <a:ext cx="158400" cy="91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V="1">
              <a:off x="7526880" y="2135880"/>
              <a:ext cx="264600" cy="3204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632720" y="2076120"/>
              <a:ext cx="54000" cy="15156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658280" y="1983240"/>
              <a:ext cx="0" cy="857160"/>
              <a:chOff x="7658280" y="1983240"/>
              <a:chExt cx="0" cy="85716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7658280" y="1983240"/>
                <a:ext cx="0" cy="165600"/>
              </a:xfrm>
              <a:prstGeom prst="line">
                <a:avLst/>
              </a:prstGeom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7658280" y="2719080"/>
                <a:ext cx="0" cy="121320"/>
              </a:xfrm>
              <a:prstGeom prst="line">
                <a:avLst/>
              </a:prstGeom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8093520" y="822960"/>
              <a:ext cx="61920" cy="285480"/>
              <a:chOff x="8093520" y="822960"/>
              <a:chExt cx="61920" cy="28548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8093520" y="822960"/>
                <a:ext cx="0" cy="28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93520" y="107892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93520" y="1019520"/>
                <a:ext cx="619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93520" y="95976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93520" y="89748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93520" y="83520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8125200" y="6257880"/>
              <a:ext cx="61920" cy="285480"/>
              <a:chOff x="8125200" y="6257880"/>
              <a:chExt cx="61920" cy="285480"/>
            </a:xfrm>
          </p:grpSpPr>
          <p:sp>
            <p:nvSpPr>
              <p:cNvPr id="181" name=""/>
              <p:cNvSpPr/>
              <p:nvPr/>
            </p:nvSpPr>
            <p:spPr>
              <a:xfrm flipV="1">
                <a:off x="8125200" y="6257880"/>
                <a:ext cx="0" cy="28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25200" y="651384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25200" y="6454440"/>
                <a:ext cx="619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25200" y="639468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25200" y="633240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125200" y="627012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767720" y="6181200"/>
              <a:ext cx="34920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634160" y="5228640"/>
              <a:ext cx="0" cy="50796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91400" y="4403880"/>
              <a:ext cx="596880" cy="4060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6760" y="5368680"/>
              <a:ext cx="628920" cy="4190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275680" y="4797000"/>
              <a:ext cx="0" cy="99036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46760" y="4835520"/>
              <a:ext cx="6120" cy="139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16600" y="3832200"/>
              <a:ext cx="196920" cy="10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36040" y="3063960"/>
              <a:ext cx="126720" cy="568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46760" y="1171800"/>
              <a:ext cx="704880" cy="495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10480" y="2397240"/>
              <a:ext cx="628920" cy="418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339400" y="1679760"/>
              <a:ext cx="6120" cy="1136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646760" y="1184400"/>
              <a:ext cx="0" cy="5904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736040" y="752400"/>
              <a:ext cx="34920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621440" y="189000"/>
            <a:ext cx="3724200" cy="520560"/>
          </a:xfrm>
          <a:prstGeom prst="rect">
            <a:avLst/>
          </a:prstGeom>
          <a:solidFill>
            <a:srgbClr val="e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éma d’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835280" y="765000"/>
          <a:ext cx="581976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765000"/>
                    <a:ext cx="58197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8360" y="4005360"/>
                <a:ext cx="1152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960" y="340812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24360" y="4076640"/>
                <a:ext cx="4680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24000" y="5084640"/>
                <a:ext cx="266364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51280" y="5373720"/>
                <a:ext cx="49323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acc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00000" y="549360"/>
                <a:ext cx="540072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acc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M</m:t>
                                    </m:r>
                                  </m:e>
                                </m:acc>
                                <m:r>
                                  <m:t xml:space="preserve">∧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50920" y="2205000"/>
                <a:ext cx="2700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43564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une répartition uniforme de 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2160" y="3645000"/>
            <a:ext cx="651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est le couple de friction 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est le coefficient de frottement entre deux surfaces frot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 le nombre de surfaces frot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est l’effort axial pres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et r sont les rayons extrêmes de la surface de frot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800" y="5392800"/>
            <a:ext cx="256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numéri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0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05280" y="5608800"/>
            <a:ext cx="2304720" cy="916920"/>
          </a:xfrm>
          <a:prstGeom prst="rect">
            <a:avLst/>
          </a:prstGeom>
          <a:solidFill>
            <a:srgbClr val="e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 = 0,0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ouple en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l’effort axial  e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0" t="0" r="0" b="25451"/>
          <a:stretch/>
        </p:blipFill>
        <p:spPr>
          <a:xfrm>
            <a:off x="0" y="907920"/>
            <a:ext cx="4533840" cy="260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276720" y="836640"/>
                <a:ext cx="4371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μ</m:t>
                    </m:r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+ ta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423600" y="1628640"/>
            <a:ext cx="4112640" cy="1191240"/>
          </a:xfrm>
          <a:prstGeom prst="rect">
            <a:avLst/>
          </a:prstGeom>
          <a:solidFill>
            <a:srgbClr val="e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lication numér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F = 2200 . 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s: couple de serrage de la vis en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: effort axial  exercé par la vis e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3860640"/>
            <a:ext cx="165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407664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3860640"/>
            <a:ext cx="1871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ort ax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les di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19640" y="407664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7640" y="3860640"/>
            <a:ext cx="237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 transmi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e limit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31400" y="524844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de serrage envisageable avec la clef de serrage: 50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ort axial: 110 00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transmissible: 2200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22:48Z</dcterms:created>
  <dc:creator>Marc SALETTE</dc:creator>
  <dc:description/>
  <dc:language>en-US</dc:language>
  <cp:lastModifiedBy>Marc SALETTE</cp:lastModifiedBy>
  <dcterms:modified xsi:type="dcterms:W3CDTF">2008-03-08T17:07:11Z</dcterms:modified>
  <cp:revision>5</cp:revision>
  <dc:subject/>
  <dc:title>Ouvre portail Domotic Limiteur de couple </dc:title>
</cp:coreProperties>
</file>